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ABA-BA5E-4AD7-B762-0639C645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5A8-0B6C-433F-927B-F0EAC499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7BA-B1B2-4619-A7CD-DAAEDAD8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3DA-D4CD-4793-83B9-2DF32D90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6C54-D133-49FC-859C-6A000633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2B5E-AE69-4A64-9BA4-20F6A6D0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3BDA-187F-4A12-AB4B-3EB6B347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0B20-EBAF-448B-9EDF-7499CA6E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35F8-EE33-45A0-8BF4-67AE8810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3A17-AD3F-485C-9BCB-4722FC70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860B-2569-4106-85E5-B0330AF4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2D6-604C-4572-8F12-728CA595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B57F-B46C-4B64-98E8-37D44BA7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FDA3-CA75-421A-A5F7-6F5620B2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7E9C-D691-48C5-8A3D-704B1B51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1733-E812-4C26-994E-D34BB1C1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4A2F-4A94-4E13-886F-8945111D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F0D-E8EF-4FE4-94D3-57533530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2A8-0AE6-4206-B082-AB5FEF82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08D-2801-4511-AAE2-7415B50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A3D-2A8B-4E07-BF68-C8B4EBFB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9A4-11D7-4A33-837B-BA4D9D63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B84-345D-4573-8EDD-33D3ACE5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BDB-8E3D-4DEE-8B73-E1D5AA78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DE6F-ECC2-4A4A-9794-C231E59C0B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232E-E4EA-4EE3-83ED-47A9B03953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10199"/>
                </a:solidFill>
                <a:latin typeface="Arial"/>
              </a:rPr>
              <a:t>Cold</a:t>
            </a:r>
            <a:r>
              <a:rPr b="0" lang="en-US" sz="7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War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ate of competition, tension, and hostility between th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United States and their allies (the wes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Soviet Union and their allies (the eas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ween WW2 and 19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direct conflict on the battlef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1:10:23Z</dcterms:created>
  <dc:creator>HP Authorized Customer</dc:creator>
  <dc:description/>
  <dc:language>en-US</dc:language>
  <cp:lastModifiedBy>HP Authorized Customer</cp:lastModifiedBy>
  <dcterms:modified xsi:type="dcterms:W3CDTF">2009-05-31T21:14:26Z</dcterms:modified>
  <cp:revision>1</cp:revision>
  <dc:subject/>
  <dc:title>Cold War</dc:title>
</cp:coreProperties>
</file>