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E73-BE62-417A-AF6E-37247B5E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F19-C4B6-4EE5-B2A6-38B48D6A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819-488D-4F97-9B0E-FC88335C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9C8-7F3D-46E1-8C60-F0E65227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2F7D-42D0-41AA-ABA5-51A94B4E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1BD7-6424-4D3B-A892-F4590B74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2531-542F-4D8A-9282-E56E7593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65DB-D62E-40F7-9A4E-95D75B15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D5FA-EA70-483E-9B61-A62CAFE5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435C-15EF-4353-818E-7680B84D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4C09-7386-4669-80DE-4F12459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5C5-F5B8-4B0B-A12D-4D7C582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BA8C-4C86-42CE-A0D4-48DE559D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FAD9-94EE-4F2A-BA3B-B9896A9A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DB57-38F2-4134-87D8-03AC5F2C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ECD5-BFC3-4518-8DB8-20B8A5A3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D443-16B9-445A-9915-11256269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AEB-D385-42AF-8D97-D07A6789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EA2-EE92-4085-BE87-E395A2A7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E9F-46B8-443B-B933-4DCE3C78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8E1-4CEA-4636-8424-9011A2B1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91E-E339-425F-8C80-537DD1B0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0DF-BE52-481B-B889-E33FA9D1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31B-7F18-4CEB-9C17-ABD12074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D506-2011-4682-9C6F-DB8560424D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672C-7C8C-4D2D-AAD4-878BE0E762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10199"/>
                </a:solidFill>
                <a:latin typeface="Arial"/>
              </a:rPr>
              <a:t>Cold</a:t>
            </a:r>
            <a:r>
              <a:rPr b="0" lang="en-US" sz="7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War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ate of competition, tension, and hostility between th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United States and their allies (the wes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Soviet Union and their allies (the eas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ween WW2 and 19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direct conflict on the battlef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1:10:23Z</dcterms:created>
  <dc:creator>HP Authorized Customer</dc:creator>
  <dc:description/>
  <dc:language>en-US</dc:language>
  <cp:lastModifiedBy>HP Authorized Customer</cp:lastModifiedBy>
  <dcterms:modified xsi:type="dcterms:W3CDTF">2009-05-31T21:14:26Z</dcterms:modified>
  <cp:revision>1</cp:revision>
  <dc:subject/>
  <dc:title>Cold War</dc:title>
</cp:coreProperties>
</file>