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739-1018-4DC0-9ABB-53F03B78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11D-CF15-488E-9398-090EE4AC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0B2-A5A7-4248-95B2-02DA3C32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840-9CF0-479D-9598-154F75B9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0634-4CC3-4265-9886-9B658343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6731-039F-4E80-826B-9C4EAC45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0E39-EA9F-4B0C-AE52-753B2252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F13C-2D10-48BE-B274-C34A67FC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7CC2-F87F-4837-8F6B-8499C6F6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B73F-FDB9-4318-A424-54B4BBA0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BC52-B666-4E19-95E1-FADB8B48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436-1432-4696-86F9-FE006EFA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186A-6CFB-4A99-857E-DACAB8B3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7F11-1FB4-49EC-9F49-2E6B7D87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A786-33F8-4D01-BC30-4EDFC74D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A58B-2603-45D2-AF5C-C3A20582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F3AC-66B2-4606-A8F3-3DF241F2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5B7-FC71-4CCB-AEB0-3ABDF8CE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966-8230-4BDB-B3A4-AA57554E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DBE-37AB-4A55-80B2-3CA4B189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AC4-1AA5-492F-8DDA-DFF4D3BB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229-75B1-4DAC-B7EB-0FE00B00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1E5-71AE-4E9E-B30C-43DBB41D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D33C-47D1-4E27-98F5-188A8448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3B7E-B074-4BD0-B123-3A49F546DF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E061-C20E-4E76-B057-1FC2881D24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10199"/>
                </a:solidFill>
                <a:latin typeface="Arial"/>
              </a:rPr>
              <a:t>Cold</a:t>
            </a:r>
            <a:r>
              <a:rPr b="0" lang="en-US" sz="7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War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ate of competition, tension, and hostility between th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United States and their allies (the wes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Soviet Union and their allies (the eas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tween WW2 and 19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direct conflict on the battlefie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1:10:23Z</dcterms:created>
  <dc:creator>HP Authorized Customer</dc:creator>
  <dc:description/>
  <dc:language>en-US</dc:language>
  <cp:lastModifiedBy>HP Authorized Customer</cp:lastModifiedBy>
  <dcterms:modified xsi:type="dcterms:W3CDTF">2009-05-31T21:14:26Z</dcterms:modified>
  <cp:revision>1</cp:revision>
  <dc:subject/>
  <dc:title>Cold War</dc:title>
</cp:coreProperties>
</file>