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B3F-92E8-4D03-AA3D-649BAB1A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507-BB72-412A-B766-F33F8BD5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898-A4A9-464B-8ABF-016B8E06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5CB-0357-45D2-BBE3-98C899C1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A3EA-E045-40FB-96B6-0DAD2F37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A3BA-E7FA-4485-A2A1-A026B2B5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DCCD-6B8A-4CFE-B6F8-E8B1DF10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369B-E21B-4C18-BFC6-605C24FE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216B-45C7-4A93-A7C6-B0F13C00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A894-A413-4D99-977D-B6FC61C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518F-3DFA-4D8F-8C8C-38EF70E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747A-5328-4557-BF22-911C5B0C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FCCD-9D0E-4548-8E7E-CE1F06C4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3443-83C4-4B41-AB6F-C01B7AE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8C57-BA08-4AEA-B1CE-BCCD3C1B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EF8E-33C7-4F52-8C71-9B629F7E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1BEE-F9D2-44E9-8B89-350F76E2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420-218C-4562-BCCD-92D7F8F9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416-F1AD-459F-890D-76D634D8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25B-B3B5-4E85-871D-FEDE9AE5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3AC-D887-4BAF-94E7-6FB7957D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58D-0D4D-4FF9-B639-F691CD3C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B60-0F50-4192-8E72-DC060CF2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0E0-7EE8-4A36-ABC7-24607C87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002F-12B1-4EE5-9EF7-A9067BEE36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CDFC-FEF4-4FAE-9238-1D851A1C76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10199"/>
                </a:solidFill>
                <a:latin typeface="Arial"/>
              </a:rPr>
              <a:t>Cold</a:t>
            </a:r>
            <a:r>
              <a:rPr b="0" lang="en-US" sz="7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War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ate of competition, tension, and hostility between th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United States and their allies (the wes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Soviet Union and their allies (the eas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etween WW2 and 19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direct conflict on the battlef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1:10:23Z</dcterms:created>
  <dc:creator>HP Authorized Customer</dc:creator>
  <dc:description/>
  <dc:language>en-US</dc:language>
  <cp:lastModifiedBy>HP Authorized Customer</cp:lastModifiedBy>
  <dcterms:modified xsi:type="dcterms:W3CDTF">2009-05-31T21:14:26Z</dcterms:modified>
  <cp:revision>1</cp:revision>
  <dc:subject/>
  <dc:title>Cold War</dc:title>
</cp:coreProperties>
</file>